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D258-3D39-44A3-B36B-FFF91586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66185-731E-4BDA-846F-5F94C744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8A668-C04F-4A6C-AA03-3C3E09D1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A2D5B-8397-453D-B57E-15E8C3D4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2E65-9E76-411C-BD57-5CDC5EA8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1BE6-36BC-4599-BE9D-8911543F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23E0-4315-4FD5-A5D5-75227BD3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CFD0-1793-41B8-83EE-C15E3133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BE51-CC2D-49F9-A1F5-4CC784B3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CF1F-E7CA-4374-9381-A8006A1E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9056-70B5-4836-811D-350E6CBE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FB948-35C1-4979-B628-52EE70BD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1589-149F-4244-99B6-1DA83F2C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1FE0-2793-464B-8A04-057630E1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0160-584D-4545-9BC7-512318FF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8128-FDDD-452F-9FC9-9AABFF16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559D-8060-454C-8506-FAC61EF9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B5DB-9D4D-4EE1-9A01-3A8A84C6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68B0-D210-4410-8FD3-AE4CF968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87EC1-620A-4DFF-8A8D-6BF01853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E2005-51C8-4E6D-9254-0A382593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83DD-C1C5-46AC-A755-2C26012E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61DE-5302-4ADA-885D-9267E965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40FB-6425-4AE0-9248-26A5B2FC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10A5-79B9-464D-AA8A-EF1DD7D80F6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FA2B-4497-4006-9E94-EC4045D590E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12600"/>
            <a:ext cx="7772400" cy="6832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838080" y="0"/>
            <a:ext cx="7620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bf25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герои Великой Отечественной вой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bf25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-92" t="12085" r="0" b="13351"/>
          <a:stretch/>
        </p:blipFill>
        <p:spPr>
          <a:xfrm>
            <a:off x="0" y="0"/>
            <a:ext cx="4719600" cy="4495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8699" t="-472" r="0" b="0"/>
          <a:stretch/>
        </p:blipFill>
        <p:spPr>
          <a:xfrm>
            <a:off x="4343400" y="2895480"/>
            <a:ext cx="4800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Леня Голиков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14800" y="9140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Бесстрашное имя – награда герою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Он вашим ровесником был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Споёмте о том, как любимец отряда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Бесстрашно в разведку ходил.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Споемте о том, как летали с пути эшелоны,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Которые он подрывал.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Всем сердцем в победу грядущую верил,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В бою он отчаянным был.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Недаром однажды фашистcкого зверя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В чинах генеральских подбил.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Вернулся в отряд он с бесценным пакетом.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Уснул у костра на земле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Не снилось ему, что о подвиге этом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На утро узнают в Кремле.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Что будет герою Звезда золотая -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Награда за воинский труд.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Что люди, о подвиге славном мечтая,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На Лёньку равненье возьму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083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0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8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9464" r="0" b="14856"/>
          <a:stretch/>
        </p:blipFill>
        <p:spPr>
          <a:xfrm>
            <a:off x="3952800" y="609480"/>
            <a:ext cx="5191200" cy="4876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004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9685" t="8138" r="4528" b="712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724280" y="228600"/>
            <a:ext cx="4038840" cy="67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ерои минувших немеркнущих л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ы их не забыли, девчонок, мальчише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ья жизнь молодая за нас отда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ы в сердце своём, как на знамени, пиш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стые и гордые ИХ ИМЕНА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42920"/>
            <a:ext cx="403884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строках, историей ставши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 прошлой священной вой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итаем о сверстниках наш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гибших в фашистском огне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228600"/>
            <a:ext cx="4038840" cy="69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кажется, снова в борьбе и в пох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годня в рядах своих верных друз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ликов Лён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бинин Волод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тик, Матвеев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верев, Каз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авьтесь в веках пионеры – геро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3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3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3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9 мая  65 лет Великой Побед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4448160" cy="4003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191120" y="15238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0" y="1676520"/>
            <a:ext cx="47242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вто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ашаева Надежда Геннадиевна                                   учитель технолог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едагог- организа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ОУ «Кутеминская СОШ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752480" y="990720"/>
            <a:ext cx="6172200" cy="38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умела гроза над землею,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жали мальчишки в бою…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ет народ: пионеры-герои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вечно остались в строю!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43000" y="380880"/>
            <a:ext cx="65912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2 июня 1941 году началась</a:t>
            </a:r>
            <a:endParaRPr b="0" lang="en-US" sz="1800" spc="1" strike="noStrike">
              <a:ln w="12600">
                <a:solidFill>
                  <a:srgbClr val="003300"/>
                </a:solidFill>
                <a:miter/>
              </a:ln>
              <a:solidFill>
                <a:srgbClr val="808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ликая Отечественная война</a:t>
            </a:r>
            <a:endParaRPr b="0" lang="en-US" sz="1800" spc="1" strike="noStrike">
              <a:ln w="12600">
                <a:solidFill>
                  <a:srgbClr val="003300"/>
                </a:solidFill>
                <a:miter/>
              </a:ln>
              <a:solidFill>
                <a:srgbClr val="808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3411360" cy="472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86200" y="2362320"/>
            <a:ext cx="4851360" cy="3257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229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97499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27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0" y="2951280"/>
            <a:ext cx="5867280" cy="390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5715000" y="1447920"/>
            <a:ext cx="3354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f25a"/>
                </a:solidFill>
                <a:latin typeface="Tahoma"/>
              </a:rPr>
              <a:t>Валя Котик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14800" y="1828440"/>
            <a:ext cx="5029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Мы вспомним о болях тех давн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В них совершен был подвиг не од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Вошёл в семью героев наших слав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Отважный мальчик Котик Валент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Он, как при жизни, утверждает смел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Бессмертна молодость, бессмертно  наше дело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16402" t="11470" r="13114" b="11470"/>
          <a:stretch/>
        </p:blipFill>
        <p:spPr>
          <a:xfrm>
            <a:off x="135000" y="1447920"/>
            <a:ext cx="3903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8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8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8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8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8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5677" t="8890" r="653" b="16669"/>
          <a:stretch/>
        </p:blipFill>
        <p:spPr>
          <a:xfrm>
            <a:off x="3809880" y="609480"/>
            <a:ext cx="5029200" cy="5105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bf25a"/>
                </a:solidFill>
                <a:latin typeface="Tahoma"/>
              </a:rPr>
              <a:t>Марат Казе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16005" t="11999" r="16005" b="11999"/>
          <a:stretch/>
        </p:blipFill>
        <p:spPr>
          <a:xfrm>
            <a:off x="0" y="1905120"/>
            <a:ext cx="3817800" cy="4267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86200" y="300240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bf25a"/>
                </a:solidFill>
                <a:latin typeface="Tahoma"/>
              </a:rPr>
              <a:t>Навстречу им в своё  бессмерт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bf25a"/>
                </a:solidFill>
                <a:latin typeface="Tahoma"/>
              </a:rPr>
              <a:t>Он сделал несколько шагов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bf25a"/>
                </a:solidFill>
                <a:latin typeface="Tahoma"/>
              </a:rPr>
              <a:t>И грохнул взрыв, и грозным смерч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bf25a"/>
                </a:solidFill>
                <a:latin typeface="Tahoma"/>
              </a:rPr>
              <a:t>Смело озлобленных вра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8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4416480" cy="6629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1347" t="11215" r="4624" b="14017"/>
          <a:stretch/>
        </p:blipFill>
        <p:spPr>
          <a:xfrm>
            <a:off x="4495680" y="838080"/>
            <a:ext cx="464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f25a"/>
                </a:solidFill>
                <a:latin typeface="Tahoma"/>
              </a:rPr>
              <a:t>Зина Портнов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1120" y="1295280"/>
            <a:ext cx="3544920" cy="5181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36880" y="2057760"/>
            <a:ext cx="5020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Её допрашивали четвертый день подря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Фашистский офицер, увешанный креста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Ей руки за спину выкручивал солда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Её хлестала плеть, её гноили в я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Угрюмый офицер сказа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Что больше нет терпенья у нег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Что это лишь начало жестких му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Каких не видел свет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Но, жёлтая, как воск, она молч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8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000"/>
                            </p:stCondLst>
                            <p:childTnLst>
                              <p:par>
                                <p:cTn id="1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8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8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8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8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8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8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физика</cp:lastModifiedBy>
  <dcterms:modified xsi:type="dcterms:W3CDTF">2010-04-12T08:34:1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